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5334-3CA6-49C4-AE72-6FD25CBB7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C3DF-8736-4450-ABC9-615D6C0B4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8870-9A9B-4E9B-9B85-A25A32661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F767-17F8-4AC8-846B-A4FD088C9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34A48-9758-4281-8978-1DF02311A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64009-6AAB-42C7-9B2F-38AB995AD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18317-CD81-4DF3-A2BA-AF5C4D25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D53DA-39AB-489C-B86E-5D35D6436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FAAD-843C-4C64-B9CE-50AA1CBB5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9241E-25F6-4041-87DB-019ECCE7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D9C5-D5B4-4166-AE8B-54152FCA9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A24A-024B-42E4-95B4-11A0ACC1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2326B-3383-43AE-8296-264AFFE5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5E68E-9058-4166-9DC2-096EF340E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8A6C-8B32-4070-A28A-F2653847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45A9-3B86-44A2-945C-56719DFB2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2ED6-7921-4471-BD4F-8C08E9C56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1415-49D8-4F32-B582-8912DC64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81E4-3D9E-475F-8493-CEC546E5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B92-CA75-4B1E-B8B5-58033B0D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272A-7777-4980-82F9-B7505DD6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A69C-B3F0-4290-9638-BD009DE5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C8A7-37CD-4E01-A8F2-A929950C8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CC0F-CF12-42B0-B332-20EBC3DE7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1.png"/><Relationship Id="rId43" Type="http://schemas.openxmlformats.org/officeDocument/2006/relationships/image" Target="../media/image42.png"/><Relationship Id="rId44" Type="http://schemas.openxmlformats.org/officeDocument/2006/relationships/image" Target="../media/image43.png"/><Relationship Id="rId45" Type="http://schemas.openxmlformats.org/officeDocument/2006/relationships/image" Target="../media/image44.png"/><Relationship Id="rId46" Type="http://schemas.openxmlformats.org/officeDocument/2006/relationships/image" Target="../media/image45.png"/><Relationship Id="rId47" Type="http://schemas.openxmlformats.org/officeDocument/2006/relationships/image" Target="../media/image46.png"/><Relationship Id="rId48" Type="http://schemas.openxmlformats.org/officeDocument/2006/relationships/image" Target="../media/image47.png"/><Relationship Id="rId49" Type="http://schemas.openxmlformats.org/officeDocument/2006/relationships/image" Target="../media/image48.png"/><Relationship Id="rId50" Type="http://schemas.openxmlformats.org/officeDocument/2006/relationships/image" Target="../media/image49.png"/><Relationship Id="rId51" Type="http://schemas.openxmlformats.org/officeDocument/2006/relationships/image" Target="../media/image50.png"/><Relationship Id="rId52" Type="http://schemas.openxmlformats.org/officeDocument/2006/relationships/image" Target="../media/image51.png"/><Relationship Id="rId53" Type="http://schemas.openxmlformats.org/officeDocument/2006/relationships/image" Target="../media/image52.png"/><Relationship Id="rId54" Type="http://schemas.openxmlformats.org/officeDocument/2006/relationships/image" Target="../media/image53.png"/><Relationship Id="rId55" Type="http://schemas.openxmlformats.org/officeDocument/2006/relationships/image" Target="../media/image54.png"/><Relationship Id="rId56" Type="http://schemas.openxmlformats.org/officeDocument/2006/relationships/image" Target="../media/image55.png"/><Relationship Id="rId57" Type="http://schemas.openxmlformats.org/officeDocument/2006/relationships/image" Target="../media/image56.png"/><Relationship Id="rId58" Type="http://schemas.openxmlformats.org/officeDocument/2006/relationships/image" Target="../media/image57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7960" y="3876840"/>
            <a:ext cx="2079360" cy="2242800"/>
            <a:chOff x="-237960" y="3876840"/>
            <a:chExt cx="2079360" cy="224280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7960" y="3876840"/>
              <a:ext cx="2079360" cy="22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27000"/>
            <a:ext cx="2243160" cy="2243160"/>
            <a:chOff x="353880" y="927000"/>
            <a:chExt cx="2243160" cy="224316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2700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43160" cy="2243160"/>
            <a:chOff x="1712880" y="115920"/>
            <a:chExt cx="224316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59480"/>
            <a:ext cx="2243160" cy="1530360"/>
            <a:chOff x="353880" y="5559480"/>
            <a:chExt cx="2243160" cy="153036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59480"/>
              <a:ext cx="22431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31840"/>
            <a:ext cx="1785960" cy="2017800"/>
            <a:chOff x="-212760" y="-231840"/>
            <a:chExt cx="1785960" cy="201780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31840"/>
              <a:ext cx="1785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55640" y="-328680"/>
            <a:ext cx="2243160" cy="2243160"/>
            <a:chOff x="755640" y="-328680"/>
            <a:chExt cx="224316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55640" y="-32868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71360" y="493560"/>
            <a:ext cx="2249280" cy="2243160"/>
            <a:chOff x="-171360" y="493560"/>
            <a:chExt cx="22492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71360" y="49356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27800" y="-231840"/>
            <a:ext cx="2028960" cy="2017800"/>
            <a:chOff x="7327800" y="-231840"/>
            <a:chExt cx="2028960" cy="201780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27800" y="-231840"/>
              <a:ext cx="2028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0080" y="-231840"/>
            <a:ext cx="2243160" cy="2041560"/>
            <a:chOff x="5950080" y="-231840"/>
            <a:chExt cx="2243160" cy="204156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0080" y="-231840"/>
              <a:ext cx="22431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27000"/>
            <a:ext cx="2028960" cy="2243160"/>
            <a:chOff x="7327800" y="927000"/>
            <a:chExt cx="2028960" cy="224316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27000"/>
              <a:ext cx="20289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88320" y="4973760"/>
            <a:ext cx="1474920" cy="2092320"/>
            <a:chOff x="7888320" y="4973760"/>
            <a:chExt cx="147492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88320" y="4973760"/>
              <a:ext cx="147492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2960" y="4194000"/>
            <a:ext cx="2249280" cy="2243160"/>
            <a:chOff x="6492960" y="4194000"/>
            <a:chExt cx="2249280" cy="224316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2960" y="419400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7960" y="4780080"/>
            <a:ext cx="1688760" cy="2249280"/>
            <a:chOff x="-237960" y="4780080"/>
            <a:chExt cx="1688760" cy="22492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7960" y="4780080"/>
              <a:ext cx="16887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1320"/>
            <a:ext cx="2243160" cy="2249280"/>
            <a:chOff x="542880" y="4621320"/>
            <a:chExt cx="2243160" cy="224928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1320"/>
              <a:ext cx="22431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0080" y="615960"/>
            <a:ext cx="2243160" cy="2243160"/>
            <a:chOff x="5950080" y="615960"/>
            <a:chExt cx="2243160" cy="224316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0080" y="61596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1360" y="4973760"/>
            <a:ext cx="2243160" cy="2244600"/>
            <a:chOff x="6291360" y="4973760"/>
            <a:chExt cx="2243160" cy="224460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1360" y="4973760"/>
              <a:ext cx="22431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08800" y="506520"/>
            <a:ext cx="974880" cy="1438200"/>
            <a:chOff x="8308800" y="506520"/>
            <a:chExt cx="974880" cy="143820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08800" y="506520"/>
              <a:ext cx="9748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1120" y="115920"/>
            <a:ext cx="1225440" cy="1225440"/>
            <a:chOff x="6261120" y="115920"/>
            <a:chExt cx="1225440" cy="122544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1120" y="11592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78800" y="1359000"/>
            <a:ext cx="1401480" cy="1403280"/>
            <a:chOff x="6778800" y="1359000"/>
            <a:chExt cx="1401480" cy="140328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78800" y="1359000"/>
              <a:ext cx="14014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26200" y="1957320"/>
            <a:ext cx="1225800" cy="1224000"/>
            <a:chOff x="7126200" y="1957320"/>
            <a:chExt cx="1225800" cy="122400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26200" y="1957320"/>
              <a:ext cx="1225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56480" y="2571840"/>
            <a:ext cx="907920" cy="903240"/>
            <a:chOff x="7656480" y="2571840"/>
            <a:chExt cx="907920" cy="90324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56480" y="2571840"/>
              <a:ext cx="907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0400" y="-195120"/>
            <a:ext cx="1378080" cy="884160"/>
            <a:chOff x="590400" y="-195120"/>
            <a:chExt cx="1378080" cy="88416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0400" y="-195120"/>
              <a:ext cx="13780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07960" y="-195120"/>
            <a:ext cx="1212840" cy="645840"/>
            <a:chOff x="1407960" y="-195120"/>
            <a:chExt cx="1212840" cy="64584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07960" y="-195120"/>
              <a:ext cx="1212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65240" y="-195120"/>
            <a:ext cx="774720" cy="798480"/>
            <a:chOff x="-165240" y="-195120"/>
            <a:chExt cx="774720" cy="79848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65240" y="-195120"/>
              <a:ext cx="774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82520" y="4230720"/>
            <a:ext cx="1585800" cy="1579680"/>
            <a:chOff x="182520" y="4230720"/>
            <a:chExt cx="1585800" cy="157968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82520" y="4230720"/>
              <a:ext cx="158580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699160" y="6400800"/>
            <a:ext cx="1298520" cy="628560"/>
            <a:chOff x="5699160" y="6400800"/>
            <a:chExt cx="1298520" cy="6285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699160" y="6400800"/>
              <a:ext cx="1298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35760" y="6315120"/>
            <a:ext cx="1419120" cy="714240"/>
            <a:chOff x="6035760" y="6315120"/>
            <a:chExt cx="1419120" cy="7142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35760" y="6315120"/>
              <a:ext cx="14191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86560" y="6315120"/>
            <a:ext cx="1395360" cy="714240"/>
            <a:chOff x="7486560" y="6315120"/>
            <a:chExt cx="1395360" cy="7142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86560" y="6315120"/>
              <a:ext cx="13953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103320" y="6138720"/>
            <a:ext cx="846360" cy="816120"/>
            <a:chOff x="-103320" y="6138720"/>
            <a:chExt cx="846360" cy="81612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103320" y="6138720"/>
              <a:ext cx="846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103320" y="5126040"/>
            <a:ext cx="633600" cy="963720"/>
            <a:chOff x="-103320" y="5126040"/>
            <a:chExt cx="633600" cy="96372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103320" y="5126040"/>
              <a:ext cx="633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38120" y="804960"/>
            <a:ext cx="982800" cy="974520"/>
            <a:chOff x="438120" y="804960"/>
            <a:chExt cx="98280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38120" y="804960"/>
              <a:ext cx="9828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41320" cy="841320"/>
            <a:chOff x="285840" y="1420920"/>
            <a:chExt cx="841320" cy="84132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4240"/>
            <a:ext cx="590400" cy="590760"/>
            <a:chOff x="122400" y="1884240"/>
            <a:chExt cx="590400" cy="59076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4240"/>
              <a:ext cx="5904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65880" y="-96840"/>
            <a:ext cx="982800" cy="822240"/>
            <a:chOff x="7265880" y="-96840"/>
            <a:chExt cx="982800" cy="8222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65880" y="-96840"/>
              <a:ext cx="982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0320" y="-96840"/>
            <a:ext cx="549360" cy="682560"/>
            <a:chOff x="8680320" y="-96840"/>
            <a:chExt cx="549360" cy="6825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0320" y="-96840"/>
              <a:ext cx="549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2800"/>
            <a:ext cx="347760" cy="982800"/>
            <a:chOff x="8881920" y="712800"/>
            <a:chExt cx="347760" cy="98280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2800"/>
              <a:ext cx="3477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695160"/>
            <a:ext cx="1035000" cy="1036800"/>
            <a:chOff x="7559640" y="695160"/>
            <a:chExt cx="1035000" cy="103680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69516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37200" y="5205240"/>
            <a:ext cx="811440" cy="811440"/>
            <a:chOff x="6937200" y="5205240"/>
            <a:chExt cx="811440" cy="81144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37200" y="5205240"/>
              <a:ext cx="811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3240" y="5632560"/>
            <a:ext cx="676080" cy="676080"/>
            <a:chOff x="8193240" y="5632560"/>
            <a:chExt cx="676080" cy="6760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3240" y="5632560"/>
              <a:ext cx="676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0600" y="4065480"/>
            <a:ext cx="627120" cy="622440"/>
            <a:chOff x="8040600" y="4065480"/>
            <a:chExt cx="627120" cy="62244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0600" y="4065480"/>
              <a:ext cx="627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75760" y="5022720"/>
            <a:ext cx="622080" cy="622440"/>
            <a:chOff x="8375760" y="5022720"/>
            <a:chExt cx="622080" cy="62244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75760" y="5022720"/>
              <a:ext cx="622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54520"/>
            <a:ext cx="573120" cy="622440"/>
            <a:chOff x="8656560" y="4754520"/>
            <a:chExt cx="573120" cy="62244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54520"/>
              <a:ext cx="573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25A54-790B-45BE-B737-DDBA8E8B0164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14440" y="5284800"/>
            <a:ext cx="2243160" cy="1805040"/>
            <a:chOff x="1414440" y="5284800"/>
            <a:chExt cx="2243160" cy="180504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14440" y="5284800"/>
              <a:ext cx="22431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34520" y="3346560"/>
            <a:ext cx="377640" cy="377640"/>
            <a:chOff x="8534520" y="3346560"/>
            <a:chExt cx="377640" cy="37764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34520" y="334656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2800" y="3498840"/>
            <a:ext cx="379440" cy="378000"/>
            <a:chOff x="8362800" y="3498840"/>
            <a:chExt cx="379440" cy="37800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2800" y="3498840"/>
              <a:ext cx="3794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0880" y="3651120"/>
            <a:ext cx="378000" cy="378000"/>
            <a:chOff x="8570880" y="3651120"/>
            <a:chExt cx="378000" cy="37800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0880" y="365112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46560"/>
            <a:ext cx="420840" cy="420480"/>
            <a:chOff x="237960" y="3346560"/>
            <a:chExt cx="420840" cy="42048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4656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55600" y="2414520"/>
            <a:ext cx="1700280" cy="2243160"/>
            <a:chOff x="-255600" y="2414520"/>
            <a:chExt cx="170028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55600" y="2414520"/>
              <a:ext cx="1700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3280" y="2305080"/>
            <a:ext cx="1403280" cy="1401840"/>
            <a:chOff x="6083280" y="2305080"/>
            <a:chExt cx="1403280" cy="140184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3280" y="2305080"/>
              <a:ext cx="140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7960" y="3876840"/>
            <a:ext cx="2079360" cy="2242800"/>
            <a:chOff x="-237960" y="3876840"/>
            <a:chExt cx="2079360" cy="224280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7960" y="3876840"/>
              <a:ext cx="2079360" cy="224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27000"/>
            <a:ext cx="2243160" cy="2243160"/>
            <a:chOff x="353880" y="927000"/>
            <a:chExt cx="2243160" cy="224316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2700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43160" cy="2243160"/>
            <a:chOff x="1712880" y="115920"/>
            <a:chExt cx="224316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59480"/>
            <a:ext cx="2243160" cy="1530360"/>
            <a:chOff x="353880" y="5559480"/>
            <a:chExt cx="2243160" cy="153036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59480"/>
              <a:ext cx="2243160" cy="15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31840"/>
            <a:ext cx="1785960" cy="2017800"/>
            <a:chOff x="-212760" y="-231840"/>
            <a:chExt cx="1785960" cy="201780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31840"/>
              <a:ext cx="1785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55640" y="-328680"/>
            <a:ext cx="2243160" cy="2243160"/>
            <a:chOff x="755640" y="-328680"/>
            <a:chExt cx="224316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55640" y="-32868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71360" y="493560"/>
            <a:ext cx="2249280" cy="2243160"/>
            <a:chOff x="-171360" y="493560"/>
            <a:chExt cx="22492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71360" y="49356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27800" y="-231840"/>
            <a:ext cx="2028960" cy="2017800"/>
            <a:chOff x="7327800" y="-231840"/>
            <a:chExt cx="2028960" cy="201780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27800" y="-231840"/>
              <a:ext cx="2028960" cy="201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0080" y="-231840"/>
            <a:ext cx="2243160" cy="2041560"/>
            <a:chOff x="5950080" y="-231840"/>
            <a:chExt cx="2243160" cy="204156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0080" y="-231840"/>
              <a:ext cx="22431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27000"/>
            <a:ext cx="2028960" cy="2243160"/>
            <a:chOff x="7327800" y="927000"/>
            <a:chExt cx="2028960" cy="224316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27000"/>
              <a:ext cx="20289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88320" y="4973760"/>
            <a:ext cx="1474920" cy="2092320"/>
            <a:chOff x="7888320" y="4973760"/>
            <a:chExt cx="147492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88320" y="4973760"/>
              <a:ext cx="147492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2960" y="4194000"/>
            <a:ext cx="2249280" cy="2243160"/>
            <a:chOff x="6492960" y="4194000"/>
            <a:chExt cx="2249280" cy="224316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2960" y="4194000"/>
              <a:ext cx="2249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7960" y="4780080"/>
            <a:ext cx="1688760" cy="2249280"/>
            <a:chOff x="-237960" y="4780080"/>
            <a:chExt cx="1688760" cy="22492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7960" y="4780080"/>
              <a:ext cx="16887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1320"/>
            <a:ext cx="2243160" cy="2249280"/>
            <a:chOff x="542880" y="4621320"/>
            <a:chExt cx="2243160" cy="224928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1320"/>
              <a:ext cx="2243160" cy="224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0080" y="615960"/>
            <a:ext cx="2243160" cy="2243160"/>
            <a:chOff x="5950080" y="615960"/>
            <a:chExt cx="2243160" cy="224316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0080" y="615960"/>
              <a:ext cx="224316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1360" y="4973760"/>
            <a:ext cx="2243160" cy="2244600"/>
            <a:chOff x="6291360" y="4973760"/>
            <a:chExt cx="2243160" cy="224460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1360" y="4973760"/>
              <a:ext cx="2243160" cy="224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08800" y="506520"/>
            <a:ext cx="974880" cy="1438200"/>
            <a:chOff x="8308800" y="506520"/>
            <a:chExt cx="974880" cy="143820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08800" y="506520"/>
              <a:ext cx="974880" cy="14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1120" y="115920"/>
            <a:ext cx="1225440" cy="1225440"/>
            <a:chOff x="6261120" y="115920"/>
            <a:chExt cx="1225440" cy="122544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1120" y="115920"/>
              <a:ext cx="122544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78800" y="1359000"/>
            <a:ext cx="1401480" cy="1403280"/>
            <a:chOff x="6778800" y="1359000"/>
            <a:chExt cx="1401480" cy="140328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78800" y="1359000"/>
              <a:ext cx="14014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26200" y="1957320"/>
            <a:ext cx="1225800" cy="1224000"/>
            <a:chOff x="7126200" y="1957320"/>
            <a:chExt cx="1225800" cy="122400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26200" y="1957320"/>
              <a:ext cx="1225800" cy="12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56480" y="2571840"/>
            <a:ext cx="907920" cy="903240"/>
            <a:chOff x="7656480" y="2571840"/>
            <a:chExt cx="907920" cy="90324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56480" y="2571840"/>
              <a:ext cx="907920" cy="903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0400" y="-195120"/>
            <a:ext cx="1378080" cy="884160"/>
            <a:chOff x="590400" y="-195120"/>
            <a:chExt cx="1378080" cy="88416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0400" y="-195120"/>
              <a:ext cx="1378080" cy="88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07960" y="-195120"/>
            <a:ext cx="1212840" cy="645840"/>
            <a:chOff x="1407960" y="-195120"/>
            <a:chExt cx="1212840" cy="64584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07960" y="-195120"/>
              <a:ext cx="1212840" cy="64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65240" y="-195120"/>
            <a:ext cx="774720" cy="798480"/>
            <a:chOff x="-165240" y="-195120"/>
            <a:chExt cx="774720" cy="79848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65240" y="-195120"/>
              <a:ext cx="77472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82520" y="4230720"/>
            <a:ext cx="1585800" cy="1579680"/>
            <a:chOff x="182520" y="4230720"/>
            <a:chExt cx="1585800" cy="157968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82520" y="4230720"/>
              <a:ext cx="1585800" cy="157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699160" y="6400800"/>
            <a:ext cx="1298520" cy="628560"/>
            <a:chOff x="5699160" y="6400800"/>
            <a:chExt cx="1298520" cy="6285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699160" y="6400800"/>
              <a:ext cx="129852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35760" y="6315120"/>
            <a:ext cx="1419120" cy="714240"/>
            <a:chOff x="6035760" y="6315120"/>
            <a:chExt cx="1419120" cy="7142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35760" y="6315120"/>
              <a:ext cx="141912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86560" y="6315120"/>
            <a:ext cx="1395360" cy="714240"/>
            <a:chOff x="7486560" y="6315120"/>
            <a:chExt cx="1395360" cy="7142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86560" y="6315120"/>
              <a:ext cx="1395360" cy="71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103320" y="6138720"/>
            <a:ext cx="846360" cy="816120"/>
            <a:chOff x="-103320" y="6138720"/>
            <a:chExt cx="846360" cy="81612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103320" y="6138720"/>
              <a:ext cx="846360" cy="8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103320" y="5126040"/>
            <a:ext cx="633600" cy="963720"/>
            <a:chOff x="-103320" y="5126040"/>
            <a:chExt cx="633600" cy="96372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103320" y="5126040"/>
              <a:ext cx="633600" cy="96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38120" y="804960"/>
            <a:ext cx="982800" cy="974520"/>
            <a:chOff x="438120" y="804960"/>
            <a:chExt cx="98280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38120" y="804960"/>
              <a:ext cx="98280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41320" cy="841320"/>
            <a:chOff x="285840" y="1420920"/>
            <a:chExt cx="841320" cy="84132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413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4240"/>
            <a:ext cx="590400" cy="590760"/>
            <a:chOff x="122400" y="1884240"/>
            <a:chExt cx="590400" cy="59076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4240"/>
              <a:ext cx="590400" cy="5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65880" y="-96840"/>
            <a:ext cx="982800" cy="822240"/>
            <a:chOff x="7265880" y="-96840"/>
            <a:chExt cx="982800" cy="8222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65880" y="-96840"/>
              <a:ext cx="98280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0320" y="-96840"/>
            <a:ext cx="549360" cy="682560"/>
            <a:chOff x="8680320" y="-96840"/>
            <a:chExt cx="549360" cy="6825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0320" y="-96840"/>
              <a:ext cx="54936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2800"/>
            <a:ext cx="347760" cy="982800"/>
            <a:chOff x="8881920" y="712800"/>
            <a:chExt cx="347760" cy="98280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2800"/>
              <a:ext cx="347760" cy="9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695160"/>
            <a:ext cx="1035000" cy="1036800"/>
            <a:chOff x="7559640" y="695160"/>
            <a:chExt cx="1035000" cy="103680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695160"/>
              <a:ext cx="1035000" cy="103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37200" y="5205240"/>
            <a:ext cx="811440" cy="811440"/>
            <a:chOff x="6937200" y="5205240"/>
            <a:chExt cx="811440" cy="81144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37200" y="5205240"/>
              <a:ext cx="8114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3240" y="5632560"/>
            <a:ext cx="676080" cy="676080"/>
            <a:chOff x="8193240" y="5632560"/>
            <a:chExt cx="676080" cy="6760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3240" y="5632560"/>
              <a:ext cx="676080" cy="67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0600" y="4065480"/>
            <a:ext cx="627120" cy="622440"/>
            <a:chOff x="8040600" y="4065480"/>
            <a:chExt cx="627120" cy="62244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0600" y="4065480"/>
              <a:ext cx="627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75760" y="5022720"/>
            <a:ext cx="622080" cy="622440"/>
            <a:chOff x="8375760" y="5022720"/>
            <a:chExt cx="622080" cy="62244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75760" y="5022720"/>
              <a:ext cx="62208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54520"/>
            <a:ext cx="573120" cy="622440"/>
            <a:chOff x="8656560" y="4754520"/>
            <a:chExt cx="573120" cy="62244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54520"/>
              <a:ext cx="573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14440" y="5284800"/>
            <a:ext cx="2243160" cy="1805040"/>
            <a:chOff x="1414440" y="5284800"/>
            <a:chExt cx="2243160" cy="180504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14440" y="5284800"/>
              <a:ext cx="2243160" cy="180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34520" y="3346560"/>
            <a:ext cx="377640" cy="377640"/>
            <a:chOff x="8534520" y="3346560"/>
            <a:chExt cx="377640" cy="37764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34520" y="3346560"/>
              <a:ext cx="37764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2800" y="3498840"/>
            <a:ext cx="379440" cy="378000"/>
            <a:chOff x="8362800" y="3498840"/>
            <a:chExt cx="379440" cy="37800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2800" y="3498840"/>
              <a:ext cx="37944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0880" y="3651120"/>
            <a:ext cx="378000" cy="378000"/>
            <a:chOff x="8570880" y="3651120"/>
            <a:chExt cx="378000" cy="37800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0880" y="3651120"/>
              <a:ext cx="378000" cy="37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46560"/>
            <a:ext cx="420840" cy="420480"/>
            <a:chOff x="237960" y="3346560"/>
            <a:chExt cx="420840" cy="42048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46560"/>
              <a:ext cx="42084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55600" y="2414520"/>
            <a:ext cx="1700280" cy="2243160"/>
            <a:chOff x="-255600" y="2414520"/>
            <a:chExt cx="170028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55600" y="2414520"/>
              <a:ext cx="17002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3280" y="2305080"/>
            <a:ext cx="1403280" cy="1401840"/>
            <a:chOff x="6083280" y="2305080"/>
            <a:chExt cx="1403280" cy="140184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3280" y="2305080"/>
              <a:ext cx="140328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0560"/>
              <a:ext cx="1101600" cy="1103400"/>
              <a:chOff x="5261040" y="1420560"/>
              <a:chExt cx="1101600" cy="110340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0560"/>
                <a:ext cx="1101600" cy="110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800" y="1598400"/>
                <a:ext cx="750600" cy="74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396800"/>
              <a:ext cx="851400" cy="854280"/>
              <a:chOff x="5427720" y="1396800"/>
              <a:chExt cx="851400" cy="85428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396800"/>
                <a:ext cx="851400" cy="854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480" y="1537560"/>
                <a:ext cx="573480" cy="57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5520"/>
              <a:ext cx="631080" cy="628560"/>
              <a:chOff x="5040360" y="1865520"/>
              <a:chExt cx="631080" cy="62856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5520"/>
                <a:ext cx="631080" cy="628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4960"/>
                <a:ext cx="416160" cy="414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88480"/>
              <a:ext cx="518040" cy="515880"/>
              <a:chOff x="5207400" y="1788480"/>
              <a:chExt cx="518040" cy="5158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88480"/>
                <a:ext cx="518040" cy="51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8120"/>
                <a:ext cx="338040" cy="33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49480"/>
              <a:ext cx="291600" cy="296640"/>
              <a:chOff x="4516560" y="2049480"/>
              <a:chExt cx="291600" cy="29664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49480"/>
                <a:ext cx="291600" cy="296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5960" y="2109600"/>
                <a:ext cx="177120" cy="17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0520"/>
              <a:chOff x="5898240" y="993600"/>
              <a:chExt cx="291600" cy="29052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0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920" y="1048680"/>
                <a:ext cx="177120" cy="17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5520"/>
              <a:ext cx="237960" cy="237240"/>
              <a:chOff x="4849920" y="1865520"/>
              <a:chExt cx="237960" cy="23724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5520"/>
                <a:ext cx="237960" cy="23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73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58760"/>
              <a:ext cx="232200" cy="231120"/>
              <a:chOff x="5916240" y="1058760"/>
              <a:chExt cx="232200" cy="23112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58760"/>
                <a:ext cx="232200" cy="231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840" y="1105560"/>
                <a:ext cx="136440" cy="13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6E66-FAEC-4411-86C4-749627AFE2C1}" type="slidenum">
              <a:rPr b="0" lang="en-US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Les verbes réguliers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edd78"/>
                </a:solidFill>
                <a:latin typeface="Verdana"/>
              </a:rPr>
              <a:t>En –ER, -IR, -R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 this slideshow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 am trying to get you to think critically about what verbs we use in sentenc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 is important to look for two things in the sentence when conjugating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subject (a name, a pronoun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800280" indent="-343080">
              <a:spcBef>
                <a:spcPts val="400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e tense of the verb (so the right ending goes on the verb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It’s VERY important to memorize the endings of –ER, -IR, and –RE verbs – but even more important to know how to use them!!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t’s look at some sentences togethe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verbes en -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Je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regarde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a télé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Tu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écoute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de la musiqu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Il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parle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au téléphon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N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aimon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a pizz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V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magasinez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au centre commerci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Elle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jouent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au basketbal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**N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mangeon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de la pizza.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5029200" y="2209680"/>
          <a:ext cx="3470400" cy="2595600"/>
        </p:xfrm>
        <a:graphic>
          <a:graphicData uri="http://schemas.openxmlformats.org/drawingml/2006/table">
            <a:tbl>
              <a:tblPr/>
              <a:tblGrid>
                <a:gridCol w="1814400"/>
                <a:gridCol w="16560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JOU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ou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4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verbes en -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2066760" y="182880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J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grand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rapidment chaque été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u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hoisi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bon film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Mon am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fini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ses devoirs avant qu’il va au ciném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ise, Juan, Luc, et moi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choisisson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un jeu vidé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Vou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ne finissez pas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les devoi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Les chien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Verdana"/>
              </a:rPr>
              <a:t>obéissent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à leurs maît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5562720" y="2433600"/>
          <a:ext cx="3468600" cy="2595600"/>
        </p:xfrm>
        <a:graphic>
          <a:graphicData uri="http://schemas.openxmlformats.org/drawingml/2006/table">
            <a:tbl>
              <a:tblPr/>
              <a:tblGrid>
                <a:gridCol w="1828800"/>
                <a:gridCol w="1639800"/>
              </a:tblGrid>
              <a:tr h="370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FIN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s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s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ss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</a:tbl>
          </a:graphicData>
        </a:graphic>
      </p:graphicFrame>
      <p:sp>
        <p:nvSpPr>
          <p:cNvPr id="429" name="TextBox 4"/>
          <p:cNvSpPr/>
          <p:nvPr/>
        </p:nvSpPr>
        <p:spPr>
          <a:xfrm>
            <a:off x="0" y="4343400"/>
            <a:ext cx="182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*ne…pas SANDWICHES the conjugated verb!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0" y="37339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ANYONE + “moi” = NOUS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1" name="TextBox 7"/>
          <p:cNvSpPr/>
          <p:nvPr/>
        </p:nvSpPr>
        <p:spPr>
          <a:xfrm>
            <a:off x="76320" y="2895480"/>
            <a:ext cx="2033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id I know to us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fini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2" name="TextBox 8"/>
          <p:cNvSpPr/>
          <p:nvPr/>
        </p:nvSpPr>
        <p:spPr>
          <a:xfrm>
            <a:off x="106200" y="5337000"/>
            <a:ext cx="190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How did I know to us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obéissent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4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es verbes en -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1801800" y="2057400"/>
            <a:ext cx="347040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J’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entend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e professeur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Tu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n’attends pa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es instruction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Qui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répond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à la question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N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attendons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l’autobu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Vou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vendez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votre auto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Ils </a:t>
            </a:r>
            <a:r>
              <a:rPr b="1" lang="fr-CA" sz="1800" spc="-1" strike="noStrike" u="sng">
                <a:solidFill>
                  <a:srgbClr val="ffffff"/>
                </a:solidFill>
                <a:uFillTx/>
                <a:latin typeface="Verdana"/>
              </a:rPr>
              <a:t>perdent</a:t>
            </a:r>
            <a:r>
              <a:rPr b="0" lang="fr-CA" sz="1800" spc="-1" strike="noStrike">
                <a:solidFill>
                  <a:srgbClr val="ffffff"/>
                </a:solidFill>
                <a:latin typeface="Verdana"/>
              </a:rPr>
              <a:t> souvent leurs mitai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35" name=""/>
          <p:cNvGraphicFramePr/>
          <p:nvPr/>
        </p:nvGraphicFramePr>
        <p:xfrm>
          <a:off x="5257800" y="2514600"/>
          <a:ext cx="3470400" cy="2865600"/>
        </p:xfrm>
        <a:graphic>
          <a:graphicData uri="http://schemas.openxmlformats.org/drawingml/2006/table">
            <a:tbl>
              <a:tblPr/>
              <a:tblGrid>
                <a:gridCol w="1735200"/>
                <a:gridCol w="1735200"/>
              </a:tblGrid>
              <a:tr h="371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RÉPOND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1b63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5cd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éponde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3e8"/>
                    </a:solidFill>
                  </a:tcPr>
                </a:tc>
              </a:tr>
            </a:tbl>
          </a:graphicData>
        </a:graphic>
      </p:graphicFrame>
      <p:sp>
        <p:nvSpPr>
          <p:cNvPr id="436" name="TextBox 4"/>
          <p:cNvSpPr/>
          <p:nvPr/>
        </p:nvSpPr>
        <p:spPr>
          <a:xfrm>
            <a:off x="304920" y="2525760"/>
            <a:ext cx="148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y not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ne attends pas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TextBox 6"/>
          <p:cNvSpPr/>
          <p:nvPr/>
        </p:nvSpPr>
        <p:spPr>
          <a:xfrm>
            <a:off x="76320" y="3200400"/>
            <a:ext cx="171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Why did I choos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Verdana"/>
              </a:rPr>
              <a:t>répond</a:t>
            </a:r>
            <a:r>
              <a:rPr b="0" lang="en-US" sz="14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4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4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2:22:17Z</dcterms:created>
  <dc:creator>Biega, Sarah</dc:creator>
  <dc:description/>
  <dc:language>en-US</dc:language>
  <cp:lastModifiedBy>Sarah</cp:lastModifiedBy>
  <dcterms:modified xsi:type="dcterms:W3CDTF">2012-09-17T21:45:11Z</dcterms:modified>
  <cp:revision>3</cp:revision>
  <dc:subject/>
  <dc:title>Les verbes réguliers</dc:title>
</cp:coreProperties>
</file>